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6.png" ContentType="image/png"/>
  <Override PartName="/ppt/media/image28.jpeg" ContentType="image/jpeg"/>
  <Override PartName="/ppt/media/image51.jpeg" ContentType="image/jpeg"/>
  <Override PartName="/ppt/media/image37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58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4587-EDF7-4B86-8B36-6C24EA7E5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96C2-C8F7-4F99-80DF-1EA7E609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16EF-E040-4A7F-8033-488A86EEB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0285-5D6E-4925-BD8D-C45F002CE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34D3-A780-4965-A987-E6EFCE60D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44B8-65D6-4D90-B1C7-D8CF6396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1D9DB-CAE1-4383-84C5-2DB13260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5960-2EE7-401D-85EE-B2712647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2C69-1215-4D15-8FDF-EFEA2768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656A-774D-44FD-AD07-A63AD1FD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6A78-E2ED-4CD7-B1D3-44E265C6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13D0-95BC-4548-B624-60401537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6F27-30C8-4D74-A5F4-FD032ED8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3EFF-BA59-4755-90B6-902BC5D9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5202-D4D1-45D2-AA1B-D715183F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3466-08BC-4DB2-98DB-C6D88A1C3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3684-CA5F-4078-88C7-2D6BD51A0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49FE-3CB6-4122-B732-FA1FFD76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4FFB-FEAC-4395-B8DE-E3A910BD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B95C-9056-48A9-860E-4556EB57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AD24-40A8-461A-97CB-4ED144EF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648D-BC0C-4ED1-A837-AED24278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DA91-2986-4738-BE5B-364DF812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9A50-1ECE-477E-825D-083D157F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30B0-B1A0-4187-B24C-3AD5D25C72E8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9E3C-B6E7-4189-9F42-54C90BE7AABE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82400"/>
                </a:solidFill>
                <a:latin typeface="Times New Roman"/>
              </a:rPr>
              <a:t>Московские часовни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м. Тульская, Тульская Большая 1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403440" y="1766880"/>
            <a:ext cx="308484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82400"/>
                </a:solidFill>
                <a:latin typeface="Times New Roman"/>
              </a:rPr>
              <a:t>Часовня на кладбище Арбатец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203560" y="1766880"/>
            <a:ext cx="54846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м. Сокол, Песчаный М.пер., 2а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203560" y="1766880"/>
            <a:ext cx="54846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2400"/>
                </a:solidFill>
                <a:latin typeface="Times New Roman"/>
              </a:rPr>
              <a:t>Часовня на Богородском кладбище</a:t>
            </a:r>
            <a:r>
              <a:rPr b="1" lang="ru-RU" sz="32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403440" y="1766880"/>
            <a:ext cx="3084840" cy="4113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8512200" y="3594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м. Преображенская площадь, Краснобогатырская, 79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403440" y="1766880"/>
            <a:ext cx="308484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2400"/>
                </a:solidFill>
                <a:latin typeface="Times New Roman"/>
              </a:rPr>
              <a:t>Часовня на Преображенском кладбище 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203560" y="1766880"/>
            <a:ext cx="54846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м. Преображенская площадь, Преображенский вал, 25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203560" y="1766880"/>
            <a:ext cx="54846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2400"/>
                </a:solidFill>
                <a:latin typeface="Times New Roman"/>
              </a:rPr>
              <a:t>Часовня во имя святых 12-ти целителей. Новогереево.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203560" y="1766880"/>
            <a:ext cx="54846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2400"/>
                </a:solidFill>
                <a:latin typeface="Times New Roman"/>
              </a:rPr>
              <a:t>Часовня новомучеников и исповедников России. Площадь Ильича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203560" y="1766880"/>
            <a:ext cx="54846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2400"/>
                </a:solidFill>
                <a:latin typeface="Times New Roman"/>
              </a:rPr>
              <a:t>Часовня в Марьино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203560" y="1766880"/>
            <a:ext cx="54846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2400"/>
                </a:solidFill>
                <a:latin typeface="Times New Roman"/>
              </a:rPr>
              <a:t>Часовня Духа Святого Сошествия.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03560" y="1766880"/>
            <a:ext cx="54846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2400"/>
                </a:solidFill>
                <a:latin typeface="Times New Roman"/>
              </a:rPr>
              <a:t>Часовня в Южном речном порту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403440" y="1766880"/>
            <a:ext cx="308484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2400"/>
                </a:solidFill>
                <a:latin typeface="Times New Roman"/>
              </a:rPr>
              <a:t>Надвратная часовня Даниловского монастыря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403440" y="1766880"/>
            <a:ext cx="308484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М. Тульская, Даниловский вал, 22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203560" y="1766880"/>
            <a:ext cx="54846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2400"/>
                </a:solidFill>
                <a:latin typeface="Times New Roman"/>
              </a:rPr>
              <a:t>Часовня-усыпальница Прохоровых в Новодевичьем монастыре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403440" y="1766880"/>
            <a:ext cx="308484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м. Спортивная, Новодевичий проезд, 1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403440" y="1766880"/>
            <a:ext cx="308484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340000" y="333360"/>
            <a:ext cx="46450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2400"/>
                </a:solidFill>
                <a:latin typeface="Times New Roman"/>
              </a:rPr>
              <a:t>Водосвятная часовня в Донском монастыре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203560" y="1766880"/>
            <a:ext cx="54846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м. Шаболовская, Донской пл., 1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203560" y="1766880"/>
            <a:ext cx="54846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2400"/>
                </a:solidFill>
                <a:latin typeface="Times New Roman"/>
              </a:rPr>
              <a:t>Часовня на 41-м км. МКАД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403440" y="1766880"/>
            <a:ext cx="308484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м. Теплый стан, МКАД 41-й км.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403440" y="1766880"/>
            <a:ext cx="308484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050920" y="2133720"/>
            <a:ext cx="5484960" cy="4041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979640" y="112536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. Рижская, ул. Советской армии,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2400"/>
                </a:solidFill>
                <a:latin typeface="Times New Roman"/>
              </a:rPr>
              <a:t>Храм-часовня на Пыхтинском кладбище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403440" y="1766880"/>
            <a:ext cx="308484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2400"/>
                </a:solidFill>
                <a:latin typeface="Times New Roman"/>
              </a:rPr>
              <a:t>М. Юго-западная, Боровское шоссе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403440" y="1766880"/>
            <a:ext cx="308484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2400"/>
                </a:solidFill>
                <a:latin typeface="Times New Roman"/>
              </a:rPr>
              <a:t>Часовня при храме Апостолов Петра и Павла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857680" y="1766880"/>
            <a:ext cx="417816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2400"/>
                </a:solidFill>
                <a:latin typeface="Times New Roman"/>
              </a:rPr>
              <a:t>Часовня Феодоровской иконы Божией Матери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543480" y="1766880"/>
            <a:ext cx="280656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2400"/>
                </a:solidFill>
                <a:latin typeface="Times New Roman"/>
              </a:rPr>
              <a:t>Саломеи Нерис ул., угол с МКАД</a:t>
            </a:r>
            <a:r>
              <a:rPr b="0" lang="ru-RU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548160" y="1766880"/>
            <a:ext cx="27972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2400"/>
                </a:solidFill>
                <a:latin typeface="Times New Roman"/>
              </a:rPr>
              <a:t>Сергия Радонежского на автозаводе Москвич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406680" y="1766880"/>
            <a:ext cx="30798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2400"/>
                </a:solidFill>
                <a:latin typeface="Times New Roman"/>
              </a:rPr>
              <a:t>Сергия Радонежского в Лосиноостровском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611520" y="1766880"/>
            <a:ext cx="266868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угол ул.Норильской и Малыгина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475080" y="1766880"/>
            <a:ext cx="294336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979640" y="260280"/>
            <a:ext cx="59864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2400"/>
                </a:solidFill>
                <a:latin typeface="Times New Roman"/>
              </a:rPr>
              <a:t>Алексия, митрополита Московского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402000" y="1766880"/>
            <a:ext cx="308916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26920" y="620640"/>
            <a:ext cx="793296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Северное Медведково, Широкая, 27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433680" y="1766880"/>
            <a:ext cx="30258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2400"/>
                </a:solidFill>
                <a:latin typeface="Times New Roman"/>
              </a:rPr>
              <a:t>Димитрия Донского в Тушино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479760" y="1766880"/>
            <a:ext cx="293364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напротив дома Туристская, 20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346560" y="1766880"/>
            <a:ext cx="31986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2400"/>
                </a:solidFill>
                <a:latin typeface="Times New Roman"/>
              </a:rPr>
              <a:t>Знамение иконы Божией Матери памятник гренадерам павшим под Плевной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200400" y="1766880"/>
            <a:ext cx="349092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2400"/>
                </a:solidFill>
                <a:latin typeface="Times New Roman"/>
              </a:rPr>
              <a:t>Монахини Рафаилы в б. Скорбященском монастыре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889360" y="1766880"/>
            <a:ext cx="41130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2400"/>
                </a:solidFill>
                <a:latin typeface="Times New Roman"/>
              </a:rPr>
              <a:t>Александра Невского на Ваганьковском кладбище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351240" y="1766880"/>
            <a:ext cx="318924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Сергея Макеева, 15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456000" y="1766880"/>
            <a:ext cx="297972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2400"/>
                </a:solidFill>
                <a:latin typeface="Times New Roman"/>
              </a:rPr>
              <a:t>Воздвижения Креста Господня в память о погибших в октябре 1993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402000" y="1766880"/>
            <a:ext cx="308916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Дружинниковская ул., начало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2679840" y="1766880"/>
            <a:ext cx="453384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2400"/>
                </a:solidFill>
                <a:latin typeface="Times New Roman"/>
              </a:rPr>
              <a:t>Часовня Пантелеймона в Отрадном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3387600" y="1766880"/>
            <a:ext cx="311652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2400"/>
                </a:solidFill>
                <a:latin typeface="Times New Roman"/>
              </a:rPr>
              <a:t>Надкладезная часовня в Даниловском монастыре 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403440" y="1766880"/>
            <a:ext cx="308484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2400"/>
                </a:solidFill>
                <a:latin typeface="Times New Roman"/>
              </a:rPr>
              <a:t>Пантелеймона на Подворье Афонского Свято-Пантелеимонова монастыря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402000" y="1766880"/>
            <a:ext cx="308916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2400"/>
                </a:solidFill>
                <a:latin typeface="Times New Roman"/>
              </a:rPr>
              <a:t>Часовня Покрова Пресвятой Богородицы в Раменках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2884320" y="1766880"/>
            <a:ext cx="412308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2400"/>
                </a:solidFill>
                <a:latin typeface="Times New Roman"/>
              </a:rPr>
              <a:t>Часовня иконы Божией Матери в Медведково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560760" y="1766880"/>
            <a:ext cx="27702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ул. Широкая, 14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73480" y="1766880"/>
            <a:ext cx="334476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м. Тульская, Даниловский вал, 22</a:t>
            </a:r>
            <a:r>
              <a:rPr b="0" lang="ru-RU" sz="28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403440" y="1766880"/>
            <a:ext cx="308484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99840" y="404280"/>
            <a:ext cx="84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82400"/>
                </a:solidFill>
                <a:latin typeface="Times New Roman"/>
              </a:rPr>
              <a:t>Поминальная часовня Даниловского монастыря</a:t>
            </a:r>
            <a:r>
              <a:rPr b="1" lang="ru-RU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203560" y="1766880"/>
            <a:ext cx="54846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м. Тульская, Даниловский вал, 22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403440" y="1766880"/>
            <a:ext cx="308484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Часовня Даниловскаго монастыря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403440" y="1766880"/>
            <a:ext cx="308484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2T16:00:56Z</dcterms:created>
  <dc:creator>Terminator</dc:creator>
  <dc:description/>
  <dc:language>en-US</dc:language>
  <cp:lastModifiedBy>Hawk</cp:lastModifiedBy>
  <dcterms:modified xsi:type="dcterms:W3CDTF">2004-06-09T03:40:15Z</dcterms:modified>
  <cp:revision>3</cp:revision>
  <dc:subject/>
  <dc:title>Православный храм</dc:title>
</cp:coreProperties>
</file>